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9EA4C-4BF4-4E06-AE61-1C8ECC881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AF602-A5D2-49DD-8AF8-BFD399B74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3FC46-E5D9-420E-871B-555E18BF4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6C4C9-09D6-4178-8959-7883BD645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29C4B5-516D-411A-9EDD-1814A7D63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E47DE-DFEA-456C-8EA3-1CD78FA20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ACEC6-FA6B-47D7-8DD7-AB6551CAC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31D63-8A97-4CCE-AF00-3B66E8B31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46198-443C-4084-8741-EE70F5D7A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18163-2582-46D4-B1EC-2264C8AB7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FF0CE-3644-4538-930E-F0AFD1C73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B6188-0E5F-4433-9762-C1CDFB757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852A1-FB4E-4D91-A5DB-B6CD6D1CF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E0471-B935-4C0F-A250-D80595C46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3496F-41FF-471A-91B7-2F69EF6B4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EA33C-0908-4856-938B-4686352E9F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21E5C-CB75-44E3-A6E0-A2C66424B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A6293-7A70-4CC8-BAF3-52776F641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CB665-E214-4DC8-9D06-29623A3F4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C5060-3B7C-47F2-934F-EBC3EEDF0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7B446-2955-4289-927B-FBE9F4FEF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07695-4F4A-454B-9460-95C42C47F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D7D0B-ACCD-4C7E-AA8B-7815513F3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10E5D-FD91-429A-8C34-A87F2A57E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A98E-0378-4C9D-86D3-1B170EDAA2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8190-F477-49F4-867F-DF1AC70ECA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m-Up Sentences</a:t>
            </a:r>
            <a:endParaRPr b="0" lang="en-US" sz="4400" spc="-1" strike="noStrike">
              <a:solidFill>
                <a:srgbClr val="ccecff"/>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moon moving away from Earth at a rate of one half in. per ye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moves threw space at sixty-six thousand seven hundred miles per hour</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4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Journal #59</a:t>
            </a:r>
            <a:endParaRPr b="0" lang="en-US" sz="5400" spc="-1" strike="noStrike">
              <a:solidFill>
                <a:srgbClr val="ccecff"/>
              </a:solidFill>
              <a:latin typeface="Arial"/>
            </a:endParaRPr>
          </a:p>
        </p:txBody>
      </p:sp>
      <p:sp>
        <p:nvSpPr>
          <p:cNvPr id="214" name="PlaceHolder 2"/>
          <p:cNvSpPr>
            <a:spLocks noGrp="1"/>
          </p:cNvSpPr>
          <p:nvPr>
            <p:ph type="subTitle"/>
          </p:nvPr>
        </p:nvSpPr>
        <p:spPr>
          <a:xfrm>
            <a:off x="1295280" y="2514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think you’ll attend you high school reunion?  Why or why n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m-Up Sentences</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pardoning 10,000 Vietnam Draft resistors in 1977, many people in the United States are upset with president Cart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mallest a person is, the less calories he needs to maintain a healthy we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8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Journal #60</a:t>
            </a:r>
            <a:endParaRPr b="0" lang="en-US" sz="5400" spc="-1" strike="noStrike">
              <a:solidFill>
                <a:srgbClr val="ccecff"/>
              </a:solidFill>
              <a:latin typeface="Arial"/>
            </a:endParaRPr>
          </a:p>
        </p:txBody>
      </p:sp>
      <p:sp>
        <p:nvSpPr>
          <p:cNvPr id="218" name="PlaceHolder 2"/>
          <p:cNvSpPr>
            <a:spLocks noGrp="1"/>
          </p:cNvSpPr>
          <p:nvPr>
            <p:ph type="subTitle"/>
          </p:nvPr>
        </p:nvSpPr>
        <p:spPr>
          <a:xfrm>
            <a:off x="1447920" y="2590920"/>
            <a:ext cx="6400800" cy="3200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ve probably heard the cliché “Money is the root of all evil.” Do you agree that the desire for money and the possession of money lead to corruption and violence, or do you think something else is the root of all evi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60948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Friday Warm-up</a:t>
            </a:r>
            <a:endParaRPr b="0" lang="en-US" sz="5400" spc="-1" strike="noStrike">
              <a:solidFill>
                <a:srgbClr val="ccecff"/>
              </a:solidFill>
              <a:latin typeface="Arial"/>
            </a:endParaRPr>
          </a:p>
        </p:txBody>
      </p:sp>
      <p:sp>
        <p:nvSpPr>
          <p:cNvPr id="220" name="PlaceHolder 2"/>
          <p:cNvSpPr>
            <a:spLocks noGrp="1"/>
          </p:cNvSpPr>
          <p:nvPr>
            <p:ph type="subTitle"/>
          </p:nvPr>
        </p:nvSpPr>
        <p:spPr>
          <a:xfrm>
            <a:off x="380520" y="1447920"/>
            <a:ext cx="853452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adly</a:t>
            </a:r>
            <a:r>
              <a:rPr b="0" lang="en-US" sz="2800" spc="-1" strike="noStrike">
                <a:solidFill>
                  <a:srgbClr val="ffffff"/>
                </a:solidFill>
                <a:latin typeface="Arial"/>
              </a:rPr>
              <a:t> is an adverb used to describe how something is done.  </a:t>
            </a:r>
            <a:r>
              <a:rPr b="0" i="1" lang="en-US" sz="2800" spc="-1" strike="noStrike">
                <a:solidFill>
                  <a:srgbClr val="ffffff"/>
                </a:solidFill>
                <a:latin typeface="Arial"/>
              </a:rPr>
              <a:t>Bad</a:t>
            </a:r>
            <a:r>
              <a:rPr b="0" lang="en-US" sz="2800" spc="-1" strike="noStrike">
                <a:solidFill>
                  <a:srgbClr val="ffffff"/>
                </a:solidFill>
                <a:latin typeface="Arial"/>
              </a:rPr>
              <a:t> is an adjective that refers to health or feelings.  Bad is also used to complete linking verbs, such as </a:t>
            </a:r>
            <a:r>
              <a:rPr b="0" i="1" lang="en-US" sz="2800" spc="-1" strike="noStrike">
                <a:solidFill>
                  <a:srgbClr val="ffffff"/>
                </a:solidFill>
                <a:latin typeface="Arial"/>
              </a:rPr>
              <a:t>seem, look, taste</a:t>
            </a:r>
            <a:r>
              <a:rPr b="0" lang="en-US" sz="2800" spc="-1" strike="noStrike">
                <a:solidFill>
                  <a:srgbClr val="ffffff"/>
                </a:solidFill>
                <a:latin typeface="Arial"/>
              </a:rPr>
              <a:t>, and </a:t>
            </a:r>
            <a:r>
              <a:rPr b="0" i="1" lang="en-US" sz="2800" spc="-1" strike="noStrike">
                <a:solidFill>
                  <a:srgbClr val="ffffff"/>
                </a:solidFill>
                <a:latin typeface="Arial"/>
              </a:rPr>
              <a:t>smell</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221" name=""/>
          <p:cNvSpPr/>
          <p:nvPr/>
        </p:nvSpPr>
        <p:spPr>
          <a:xfrm>
            <a:off x="228600" y="3276720"/>
            <a:ext cx="8610480" cy="287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ll in the blanks with bad or badly:</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I feel ______ that Harriet wasn’t invited.</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Rudolph dances ____, but at least he tried hard.</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The soup tasted ____ on the first day and even worse on the second.</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You look really _____.  When was the last time you slept?</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Ms. Kramer spells _____, so it’s lucky she has a smart secretary.</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 Roger wanted to see Gisele so _____ that he postponed his fligh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8:11:10Z</dcterms:created>
  <dc:creator>tpagel</dc:creator>
  <dc:description/>
  <dc:language>en-US</dc:language>
  <cp:lastModifiedBy>tpagel</cp:lastModifiedBy>
  <dcterms:modified xsi:type="dcterms:W3CDTF">2010-06-03T18:11:31Z</dcterms:modified>
  <cp:revision>1</cp:revision>
  <dc:subject/>
  <dc:title>Warm-Up Sentences</dc:title>
</cp:coreProperties>
</file>